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70725"/>
        <c:axId val="19039562"/>
      </c:barChart>
      <c:catAx>
        <c:axId val="59470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39562"/>
        <c:crosses val="autoZero"/>
        <c:auto val="1"/>
        <c:lblAlgn val="ctr"/>
        <c:lblOffset val="100"/>
        <c:noMultiLvlLbl val="0"/>
      </c:catAx>
      <c:valAx>
        <c:axId val="19039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70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100-CCC4-431C-BF9E-94B3C145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BAA5-441D-4363-AA0A-793F0B64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A0F-C577-404F-BAE8-4A441C16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7B0-CD60-4B9D-966C-9301B5DC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321-B75D-4F30-8B22-F87C5C37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D69-C479-49D4-8650-ADF4F04D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14A-E46C-4D8B-9AC0-7B914EAC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C78-EF58-49D9-9AFD-C015A144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F1E-1117-45B7-A57A-9295EEB5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476D-3B61-45E5-A49E-F56B2990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D45-7558-482F-A39C-FABE30EF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EA2-9AC8-4A4E-84BA-0EBECC54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F5B1C-350F-4D9E-87C3-60AA2C4C5F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