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31365"/>
        <c:axId val="11525020"/>
      </c:barChart>
      <c:catAx>
        <c:axId val="216313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25020"/>
        <c:crosses val="autoZero"/>
        <c:auto val="1"/>
        <c:lblAlgn val="ctr"/>
        <c:lblOffset val="100"/>
        <c:noMultiLvlLbl val="0"/>
      </c:catAx>
      <c:valAx>
        <c:axId val="11525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313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33C-9427-4896-8078-3EF7DD5D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A065-7F09-4AAA-B678-A970C8CE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120-5F4A-41AB-88D3-489AFAE5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503-3682-4373-BAF2-998C95FE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4A5-1D4F-4CC5-A630-06850CAD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983-D866-4B18-8589-7843C7F1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5052-DA1B-419D-9769-DE303CAE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FA27-66EE-4960-A851-AACEBD03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44B-431C-4CFD-B6CC-C1A548B7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9A5-58FE-479D-B544-4B5CA58A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E26-9824-4F93-B75A-3A3A531A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9E9-EC87-4401-9348-D986415F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460B2-0D2C-4B10-B5FD-CA2785334F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