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91159"/>
        <c:axId val="63379406"/>
      </c:barChart>
      <c:catAx>
        <c:axId val="98991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79406"/>
        <c:crosses val="autoZero"/>
        <c:auto val="1"/>
        <c:lblAlgn val="ctr"/>
        <c:lblOffset val="100"/>
        <c:noMultiLvlLbl val="0"/>
      </c:catAx>
      <c:valAx>
        <c:axId val="63379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91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533-B817-4542-8E01-3853DB2C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7E7-ECD2-49C8-BFEF-9B6FBBD0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30E-84B6-46BF-87E0-0BEEC256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B07-6E31-4F91-8D27-228320DB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F53-AB99-4416-B71A-B4DDB33D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FDE-BCAE-4CA1-8E09-12864BEE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63E-177C-45FD-B46D-864EC9A1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795-B199-4D7C-B260-75733FE6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7BA-B09B-49EA-AE60-F432EEC4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D9A-0A81-4A6C-8E1C-BE4840B2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85F-EAA3-4EAC-A1D0-8F5132F8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418-2B83-4498-B217-49F43051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A7378-7BEC-42DD-B4E0-89C40F6D47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