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57289"/>
        <c:axId val="32823033"/>
      </c:barChart>
      <c:catAx>
        <c:axId val="58457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23033"/>
        <c:crosses val="autoZero"/>
        <c:auto val="1"/>
        <c:lblAlgn val="ctr"/>
        <c:lblOffset val="100"/>
        <c:noMultiLvlLbl val="0"/>
      </c:catAx>
      <c:valAx>
        <c:axId val="32823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57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4E4-BDA7-47F4-B868-9EC3CAF0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165-6346-43A7-8546-E2D2AAB0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980-9332-4DC3-8A6F-A2B2E463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449-D4E3-49E1-BC1C-4140CAEA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C8F-7A4E-4EFE-BDD3-AD07FDF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294-CC06-4968-8191-DFD337E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EEA-7C1F-4F77-908D-98A26C31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E3A-62FE-488A-8714-69E23736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13C-5811-40FF-BEC7-8E0D6094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442-6034-4566-AA11-305D5F5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108-15EC-448C-81BA-72FFF7E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0D0-46F8-4EBB-ADD8-3CA2230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01C60-B2D1-4054-81CB-3709CE92E2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