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62506"/>
        <c:axId val="61885607"/>
      </c:barChart>
      <c:catAx>
        <c:axId val="74962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85607"/>
        <c:crosses val="autoZero"/>
        <c:auto val="1"/>
        <c:lblAlgn val="ctr"/>
        <c:lblOffset val="100"/>
        <c:noMultiLvlLbl val="0"/>
      </c:catAx>
      <c:valAx>
        <c:axId val="61885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62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E19D-04CB-467C-80E0-E8D646BA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209-EDCB-4EB7-9354-C8C7FE95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98E-2BC9-4376-968C-0EE7376D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C5C-995D-44A9-A034-9AA479B2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9F3-6C1B-4222-A6B4-30C94823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9BA-90F2-450A-BD8C-7800CC34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5EA-35AC-4797-A4A3-68120668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FEC-FD2C-4013-925F-3973A737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114-2E32-41A1-91CA-778110B2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30F-7309-4005-8342-815385E3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5EF-CFB5-4435-B16A-98306DAE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5976-124A-40F6-A164-7F9BDF05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20341-F4D2-471D-B91C-4A1EFE3B7B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