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06247"/>
        <c:axId val="57296790"/>
      </c:barChart>
      <c:catAx>
        <c:axId val="58806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96790"/>
        <c:crosses val="autoZero"/>
        <c:auto val="1"/>
        <c:lblAlgn val="ctr"/>
        <c:lblOffset val="100"/>
        <c:noMultiLvlLbl val="0"/>
      </c:catAx>
      <c:valAx>
        <c:axId val="57296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06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3FF-4E65-472D-A426-E0E61D95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D85-4818-420B-8571-0D5D7D0D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2EF-8097-4EA8-B331-FEE492CD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62B-3FB3-4251-A86C-F652A9FF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C52-77F4-47E7-A26E-2EE539A6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C04-A7FE-48CB-BE9D-61A99F58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180-2638-42FA-936A-CE50AD04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EE50-9823-4C30-8F8A-9F532CBA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14A-18E3-4C52-BB31-6A69FE0F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219D-59B9-49A9-A152-3146CFB6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655B-8D4A-4E95-A8A5-E0FEAF6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608-A812-4193-A572-BD535787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4C394-92D5-4145-B626-DB1A20CFDB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