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72455"/>
        <c:axId val="85526273"/>
      </c:barChart>
      <c:catAx>
        <c:axId val="73072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26273"/>
        <c:crosses val="autoZero"/>
        <c:auto val="1"/>
        <c:lblAlgn val="ctr"/>
        <c:lblOffset val="100"/>
        <c:noMultiLvlLbl val="0"/>
      </c:catAx>
      <c:valAx>
        <c:axId val="85526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72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60FC-4BA5-409C-87FA-1EE39626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4B21-B5BF-4AB9-937F-40F843F0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3E0-4115-4155-9918-59C6E893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8DD-7395-49E9-8AF3-8E3B1012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8E0-DF3C-4025-A414-3E175778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BA3-FB59-4913-82DA-EB5F80F8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A14-7923-48BA-B24C-5E0AD59F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EA5-A051-45DF-830C-2524A2BE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0A7F-A609-4A85-AD34-269C9628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D477-D636-490D-9040-31F87813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DF2-CE71-4040-8B4F-7E4D4B89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8E5C-E82D-48F8-8C0F-2B64BD96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E10FB-F5FC-4ED9-AD72-BB6D03675F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