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188385"/>
        <c:axId val="53573664"/>
      </c:barChart>
      <c:catAx>
        <c:axId val="251883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73664"/>
        <c:crosses val="autoZero"/>
        <c:auto val="1"/>
        <c:lblAlgn val="ctr"/>
        <c:lblOffset val="100"/>
        <c:noMultiLvlLbl val="0"/>
      </c:catAx>
      <c:valAx>
        <c:axId val="535736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883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BAD1-8A0A-4F53-ACF5-7C7201A4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2AAC-326A-4E85-B29B-8843D723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E4F7-547F-462A-870E-643F5737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CA33-3783-4F13-998A-112009BF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0EA4-4891-4234-A6DE-A267B441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DE0E-5492-48D8-9BE3-9BEC937A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97A1-B28C-4573-AB4E-4502A652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F77-241E-4FF2-8050-09882C10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4126-380D-4C08-B392-A0C54C22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7D43-83C9-467D-A592-91B63023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6A80-E606-462D-B9CE-8A241B7F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5622-80E0-497A-9043-71F46CFE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B1655-DE6A-4F75-B98E-87F9525762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