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26839"/>
        <c:axId val="99461717"/>
      </c:barChart>
      <c:catAx>
        <c:axId val="53026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61717"/>
        <c:crosses val="autoZero"/>
        <c:auto val="1"/>
        <c:lblAlgn val="ctr"/>
        <c:lblOffset val="100"/>
        <c:noMultiLvlLbl val="0"/>
      </c:catAx>
      <c:valAx>
        <c:axId val="99461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6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25A-849A-4014-ADE7-22BABCA4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8D6-9D08-4AAF-9290-3A1EA512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3D3-DCE0-4172-8A20-BAC420BF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9ED-33A7-4026-B2DC-258DFBA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CC9-819A-490D-9171-81FFF37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1D6-6ACF-47E1-BD3E-6EE05F43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D50-4183-4C34-849F-66AE4C39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C02-AE0F-4DD9-A791-3BDE3982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D21-813B-4442-BA65-5853B34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0FD-ACCB-42B1-A1E3-50AD76C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4CD-CDB1-4A8C-BD7A-98B2F08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EC4-08DE-4621-9E3B-1B6D79C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F7E69-6BC5-49D6-9BF8-B77F822EC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