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96118"/>
        <c:axId val="48008386"/>
      </c:barChart>
      <c:catAx>
        <c:axId val="20596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08386"/>
        <c:crosses val="autoZero"/>
        <c:auto val="1"/>
        <c:lblAlgn val="ctr"/>
        <c:lblOffset val="100"/>
        <c:noMultiLvlLbl val="0"/>
      </c:catAx>
      <c:valAx>
        <c:axId val="480083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96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E23-D633-466C-B64E-2432D692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D18-AAED-481F-9122-AA5FFC5E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15F-F241-4F66-8E92-40959A2C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EF4C-DDDE-4135-A574-A1CF3206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E1A-A9C9-4C38-AC92-E9F612AE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2A2-FC17-4DA2-8F91-F87CD22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255-ABAF-4DD8-80F8-087DD90B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6D5-C9E3-4277-8BEE-54796228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EE1-AE03-43ED-ABF4-AEE0DBA8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DAA-836A-480F-8933-1BD4BC48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3F1-99B3-472B-9CDF-E9CFCCD7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30D-97C8-4188-878F-6FEB5F9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E0461-DEF9-4235-BC7A-F8B70C3668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