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16262"/>
        <c:axId val="93980633"/>
      </c:barChart>
      <c:catAx>
        <c:axId val="52516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80633"/>
        <c:crosses val="autoZero"/>
        <c:auto val="1"/>
        <c:lblAlgn val="ctr"/>
        <c:lblOffset val="100"/>
        <c:noMultiLvlLbl val="0"/>
      </c:catAx>
      <c:valAx>
        <c:axId val="93980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16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FA9-109F-4778-B122-CF5BEB5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77-1571-4EE5-A0F9-5BBDCF6C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DF1-45A3-4501-BEA5-93B0F433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A83-A874-432C-8C4C-E17930CA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F8C-5C2C-4704-B777-39EC487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8FF-E98E-43FE-9CE4-5D597671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A7D-723C-45BD-9486-8D1CEE6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B9D-DA8B-40A8-BBCB-CD87D80D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92B-4C16-4592-B03D-8FF9A72D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DBA-E0C9-4358-8DB6-A9F1E43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303-69DD-44F0-A18E-BE37D4B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BC3-6541-417E-87DC-ECAC3FA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DF4C-6094-4D90-85C9-C51250514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