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48254"/>
        <c:axId val="42105778"/>
      </c:barChart>
      <c:catAx>
        <c:axId val="245482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05778"/>
        <c:crosses val="autoZero"/>
        <c:auto val="1"/>
        <c:lblAlgn val="ctr"/>
        <c:lblOffset val="100"/>
        <c:noMultiLvlLbl val="0"/>
      </c:catAx>
      <c:valAx>
        <c:axId val="42105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482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42B5-A214-4F48-9461-10243EE6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A818-76F7-4B42-B7D1-90E9F93D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9A8-E108-423B-BC26-99ED9393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199-7663-49A2-B0FF-72D2F716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5EE-3742-4523-A4CF-1D612EF4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FEF-7ED6-4FB3-B221-6B08AA3D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0252-2D8A-4735-867E-8F88E7D9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B67F-8191-4C27-9068-7FEF8093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7D67-3DFE-43B2-9007-479ADAFF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EAFD-D147-4F41-AF25-0068FAAB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4C6E-14AE-4212-884E-22507DE8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B996-C162-44BC-A4F0-530E6031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E00BF-A5DE-4DA3-8279-78E748D85F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