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06148"/>
        <c:axId val="3944821"/>
      </c:barChart>
      <c:catAx>
        <c:axId val="73406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4821"/>
        <c:crosses val="autoZero"/>
        <c:auto val="1"/>
        <c:lblAlgn val="ctr"/>
        <c:lblOffset val="100"/>
        <c:noMultiLvlLbl val="0"/>
      </c:catAx>
      <c:valAx>
        <c:axId val="3944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06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BC7-2DB7-42D1-BDD7-FCA32878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00C-516C-4C44-BEBF-BDA05EDC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87C-3089-48B6-8D10-3C2C35A7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B07-EECC-4440-88DF-E2C63505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542-4D51-499B-84B3-89C465C1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087-47C5-4CA6-933A-A6E0A47E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3F2-D6F8-4F2D-9DCD-401D067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F7B-7B38-4E59-92D3-570B95D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D0E-F995-4042-B97C-FCB76F7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7BE-B054-4677-A01F-D43D917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9C9-9049-4256-895E-55842F9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871-1869-4119-BFC7-9EDD8EF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605CE-592B-4CC4-A291-1733219219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