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1648"/>
        <c:axId val="97554082"/>
      </c:barChart>
      <c:catAx>
        <c:axId val="5121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4082"/>
        <c:crosses val="autoZero"/>
        <c:auto val="1"/>
        <c:lblAlgn val="ctr"/>
        <c:lblOffset val="100"/>
        <c:noMultiLvlLbl val="0"/>
      </c:catAx>
      <c:valAx>
        <c:axId val="97554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1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182-C688-4A70-BC7F-E823961A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30-ED32-4C4C-B7EE-B333680A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084-50D2-453E-ACAA-09B82A85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EDC-166A-4B00-9BF4-682DD00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B41-B54E-4C89-A451-D2E2F71C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AB3-C7F3-4B2C-ACAB-921D4F3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920-B529-4522-B67C-F4B7B55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66B-07F0-42C6-83B4-4996E20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361-3608-4247-8A1C-8EEEC69A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3AE-3B1A-4236-BF9A-D4DB844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9B7-1822-4BA7-A6CC-8D608EB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BC7-DA11-4FB8-B9F9-6BC76E9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89EBA-DDE0-445B-B21F-327076F6A7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