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49765"/>
        <c:axId val="9862794"/>
      </c:barChart>
      <c:catAx>
        <c:axId val="65749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2794"/>
        <c:crosses val="autoZero"/>
        <c:auto val="1"/>
        <c:lblAlgn val="ctr"/>
        <c:lblOffset val="100"/>
        <c:noMultiLvlLbl val="0"/>
      </c:catAx>
      <c:valAx>
        <c:axId val="9862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49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70E-D6EA-4F28-8B59-A749DE39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26D-2290-4616-8FA1-200ACF6B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11E-7D82-4E41-A12F-300D9C72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481-42D9-487C-AC5C-01373D39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D23-54AD-4572-95BE-A62B8857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D7C-EC37-46BC-9DE7-7ECA8F26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89B-90E6-401D-A457-1FFD897F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691-03D7-4550-8656-3D42D03B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6B6-B142-41D4-AACC-5C787869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319-02A5-41B6-B7D6-9F50766B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59E-D4FD-4C6E-ACAF-F9074EDA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7D5-932E-4852-A082-05E658B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A6314-7544-4128-A53C-431DA5265B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