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72512"/>
        <c:axId val="91656735"/>
      </c:barChart>
      <c:catAx>
        <c:axId val="39272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56735"/>
        <c:crosses val="autoZero"/>
        <c:auto val="1"/>
        <c:lblAlgn val="ctr"/>
        <c:lblOffset val="100"/>
        <c:noMultiLvlLbl val="0"/>
      </c:catAx>
      <c:valAx>
        <c:axId val="91656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72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ABD-F71B-4C2A-9FE5-F6FACF79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DA0-2CAC-4CDA-87B3-149B32E6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38A-5BE2-4D7D-BD3F-1F138325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FF1-6785-4A90-9645-06F70649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7D8-4424-439F-98F4-C9D7261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674-B45F-4FA0-BD84-9EC9F2D3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BAF-D940-4A6A-A430-22DEE6EE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832-8C8B-4C0D-8C3B-77BBA6B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9A7-8BC5-454C-95E3-E279B6C9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C2A-AF7D-492E-974F-A5243FEC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79E-D9E1-4D0A-9C84-77CAFFA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747-8177-42AF-BB05-46BB005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D5CBA-09E5-409C-9559-B1599FA29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