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06468"/>
        <c:axId val="39483686"/>
      </c:barChart>
      <c:catAx>
        <c:axId val="84906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3686"/>
        <c:crosses val="autoZero"/>
        <c:auto val="1"/>
        <c:lblAlgn val="ctr"/>
        <c:lblOffset val="100"/>
        <c:noMultiLvlLbl val="0"/>
      </c:catAx>
      <c:valAx>
        <c:axId val="39483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06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70D-9195-4A3C-840E-8D99C00C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113-F271-4386-A6F9-86CF3F1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877-17D4-4C62-95DD-012D843D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4C4-B0AC-464C-B32E-BA95F39E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CE9-9753-4819-99B8-E15004B8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7D8-219D-4294-BBEB-30FBFCD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8F2-F1E7-407B-940D-937F6BB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BC3-7F9D-4E6E-8673-602C94BA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B1A-C526-4865-9C6B-6B7B760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276-46D8-4030-AFCC-4832D53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629-920F-4F75-91C2-71A21464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965-93DF-4C78-B441-3F03D0E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0C145-58A2-4339-ADE9-10DCBEB2A1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