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219165"/>
        <c:axId val="56379190"/>
      </c:barChart>
      <c:catAx>
        <c:axId val="962191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379190"/>
        <c:crosses val="autoZero"/>
        <c:auto val="1"/>
        <c:lblAlgn val="ctr"/>
        <c:lblOffset val="100"/>
        <c:noMultiLvlLbl val="0"/>
      </c:catAx>
      <c:valAx>
        <c:axId val="563791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2191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09FE-110A-4057-9E26-03019D66F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7F9D-3F83-4A43-BD74-AF952981F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B19C-BDA3-48DD-8D78-CC091C7D0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B094-A9A5-4CFE-8E19-5025AD53D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215C-5E9F-4121-9F88-76F70D155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8474-1AD5-4E22-B9A3-E94C03733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8235-6D8B-4F48-BF44-D0ECB84A3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FF75-0643-4BE3-99BB-AA2F5E277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7BC3-9395-4FF1-BAD4-EEBA46B6B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2EB8-898C-413A-A27F-7BD11C45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9E2B-26A0-4A95-B36D-C1C452BD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7ABC-F755-4A4E-BAA7-67D04BB6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ADA03E-631D-4767-991E-3DD9E4085F8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