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41085"/>
        <c:axId val="63801016"/>
      </c:barChart>
      <c:catAx>
        <c:axId val="78741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01016"/>
        <c:crosses val="autoZero"/>
        <c:auto val="1"/>
        <c:lblAlgn val="ctr"/>
        <c:lblOffset val="100"/>
        <c:noMultiLvlLbl val="0"/>
      </c:catAx>
      <c:valAx>
        <c:axId val="63801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41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051-97FF-4E10-B7A9-C39E6406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C04-3D3A-471A-B971-9318E44D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469-609A-4307-BEC1-13E52A3C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865-3FBF-4550-9CF8-7FCB3B77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862-6867-47A3-B872-F49B4032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982-7B0D-4860-87F6-39D6C522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DD6-5625-4569-95EC-AEF07DE9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2C7-F6C4-4817-B50E-45D70312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A3A-7144-40FE-8B10-51B757FC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41C-5D7E-4178-AD37-17C119BE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8F4-0DB9-4C7D-A715-9D7E798E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80A-FCC3-486D-A395-971B7F4F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0A02F-8A1C-4F0E-ACB6-876485E325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