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475469"/>
        <c:axId val="41663995"/>
      </c:barChart>
      <c:catAx>
        <c:axId val="304754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63995"/>
        <c:crosses val="autoZero"/>
        <c:auto val="1"/>
        <c:lblAlgn val="ctr"/>
        <c:lblOffset val="100"/>
        <c:noMultiLvlLbl val="0"/>
      </c:catAx>
      <c:valAx>
        <c:axId val="416639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4754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840F-F3E1-4037-AE17-23334C66A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0FFE-0ECB-408D-B776-F33A6B16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E7CD-076E-407D-8FFD-640176E11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D858-5F95-4C4F-8C07-26686479B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8617-0A5A-4C72-B7EE-18283310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AEC9-3378-4D53-B726-D5C460CC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7304-2E55-4C69-AC86-5B00AF58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8A73-CA83-45DC-822D-C99E4319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6930-64A2-4794-84EF-0EBED85A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BB48-0C83-4A9A-8730-0B24AF09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6541-41E9-4EB5-A46D-12B67248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6F08-32E7-4FF9-A4BB-E9D51A17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3E8995-B3D3-4050-8793-F2263CFFFE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