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855376"/>
        <c:axId val="15526228"/>
      </c:barChart>
      <c:catAx>
        <c:axId val="928553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26228"/>
        <c:crosses val="autoZero"/>
        <c:auto val="1"/>
        <c:lblAlgn val="ctr"/>
        <c:lblOffset val="100"/>
        <c:noMultiLvlLbl val="0"/>
      </c:catAx>
      <c:valAx>
        <c:axId val="155262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8553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EE50-2B7B-4E99-A459-BD6A4462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8102-42B8-491D-8A17-1EC9DEDBD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FC4C-7C57-4C27-A076-6C5A1961C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D478-AE1A-402A-88AD-FA3C1461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7C86-0F58-4AA1-B160-DD39B9A4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9E4F-59DD-4179-AA62-D495CAEB0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8741-3CEF-4EF4-AF2C-2F0B30B19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538A-691C-49D5-8E66-7603B1E5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B373-A574-425B-B73D-37B6F789C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F635-7405-400C-99D8-307BE606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7067-CB0C-40A1-B351-FE453FCA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5CF2-DD69-4FFF-BCCD-C24438613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BE1B6-73A1-48DE-95E9-E31B6BE73CB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