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59929"/>
        <c:axId val="99105742"/>
      </c:barChart>
      <c:catAx>
        <c:axId val="95859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05742"/>
        <c:crosses val="autoZero"/>
        <c:auto val="1"/>
        <c:lblAlgn val="ctr"/>
        <c:lblOffset val="100"/>
        <c:noMultiLvlLbl val="0"/>
      </c:catAx>
      <c:valAx>
        <c:axId val="99105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9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11C-2733-4348-9CD7-9218D6A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6A5-50F9-4E89-8155-E6F7B6BE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E6C-0720-462D-9FD3-C1C77E8A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87B-30C2-4385-B819-A93D79E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A18-8490-491C-807E-66569232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84D-26AE-4C4C-ACD4-3E21AF40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E72-4120-48E5-8C6D-37970C22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9F4-090C-409F-993A-9BB5139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84D-93D5-4F3A-A751-BD8B8A5C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D53-4B33-4216-A281-B4B6CE1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ED6-449B-46A3-B0C5-FFF25BE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72E-F651-424E-ADF7-0D332BB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0E6CB-1448-4BE5-ABC0-6040CE2B86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