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23147"/>
        <c:axId val="24421770"/>
      </c:barChart>
      <c:catAx>
        <c:axId val="53423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21770"/>
        <c:crosses val="autoZero"/>
        <c:auto val="1"/>
        <c:lblAlgn val="ctr"/>
        <c:lblOffset val="100"/>
        <c:noMultiLvlLbl val="0"/>
      </c:catAx>
      <c:valAx>
        <c:axId val="24421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23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46C-125C-4BAF-872A-01AF6F4A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327-185E-4E88-8662-5FB2741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572C-B02C-48EC-A4CA-51A06538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71E-05A0-4F37-BBF9-C2F5EED8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433-C06A-4022-A35C-8892B735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8B7-2CE7-429C-A95F-E34CC882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5F1-25C9-41F4-8EE2-61F0623A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6BA-F846-4A34-AF75-9E340783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F3F-47C3-406F-BA3C-9957403E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331-DC58-4FB5-80F2-2F40F429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BC7-489F-4867-91DE-FEE994A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187-9B8D-4454-9E2C-6AC3660F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3CE4A-3435-40C1-B312-764453527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