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7280"/>
        <c:axId val="63556017"/>
      </c:barChart>
      <c:catAx>
        <c:axId val="123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56017"/>
        <c:crosses val="autoZero"/>
        <c:auto val="1"/>
        <c:lblAlgn val="ctr"/>
        <c:lblOffset val="100"/>
        <c:noMultiLvlLbl val="0"/>
      </c:catAx>
      <c:valAx>
        <c:axId val="63556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40E-D9FE-4AF1-9377-38A55146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851-9EB4-4F79-A3A5-1937665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231-065D-4D9F-B9EC-555C081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693-3A01-4437-9A6E-9739244A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704-3560-4058-B3BE-80C2222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B78-2212-4B66-B3B7-268DF022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B2A-1257-4F6F-9585-10487B6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185-81A1-4274-8A32-F5CB0D7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352-B7AF-4E77-9FE2-05B6172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D65-EEFC-4648-813D-D29D872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FB9-4F18-4E5E-9A30-2B7DE92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B61-FF1B-4FB3-A087-D89A1E7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2BDB8-2F7D-48E0-99BE-DCD71B51D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