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98722"/>
        <c:axId val="95707909"/>
      </c:barChart>
      <c:catAx>
        <c:axId val="97098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07909"/>
        <c:crosses val="autoZero"/>
        <c:auto val="1"/>
        <c:lblAlgn val="ctr"/>
        <c:lblOffset val="100"/>
        <c:noMultiLvlLbl val="0"/>
      </c:catAx>
      <c:valAx>
        <c:axId val="95707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8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578-BBA5-4F03-8D54-EC8EBE5E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283-D8A8-4045-A575-AD675C80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814-CB04-4968-A82B-96754F1B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CD8-3AB2-4AB3-8C3F-A295B493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6AE-89B9-450F-8A9C-586E1EF5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375-B381-4742-834D-5BBF3372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C82-F110-4E7D-BA55-C1F0A6E7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289-3BB8-4A4C-8DF3-3A7FCE61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4BF-7892-4F1F-9E78-62A0B5BA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A27-5436-4B66-A30B-794BC372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31B-09F5-4F56-87B4-5CA842BF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4C6-B079-40C0-975E-46AD6159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D3116-2B37-4A35-B885-26A25A36FA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