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0525581"/>
        <c:axId val="50207958"/>
      </c:barChart>
      <c:catAx>
        <c:axId val="3052558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0207958"/>
        <c:crosses val="autoZero"/>
        <c:auto val="1"/>
        <c:lblAlgn val="ctr"/>
        <c:lblOffset val="100"/>
        <c:noMultiLvlLbl val="0"/>
      </c:catAx>
      <c:valAx>
        <c:axId val="5020795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52558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81BA3-6274-4505-B85A-73E86A62C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719C9-6E51-43D4-993D-351335158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5FCD5-20FB-4BFA-B9F8-FF66A5CDC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678FC-BAE1-4E79-9B3B-E46CDB87F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7C87E-CADB-4ECC-A71A-C45770D7B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AACD5-88F4-4780-8CAA-1A0FEAFED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67D7F-CDAA-4E46-828A-20F401359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77F02-D951-4E8E-9E75-627D8FE61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1A99D-D008-4E7B-95AA-6F7DFB16D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B9408-A9F2-444D-A6A9-A56F7565E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DE8D3-ABA1-4E6E-ADE8-7C3F71A8B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010F3-D183-44C3-9D7F-6CA247BFF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9445EF-4A5C-40DF-A195-3B24979CDBF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