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6180330"/>
        <c:axId val="66340523"/>
      </c:barChart>
      <c:catAx>
        <c:axId val="4618033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340523"/>
        <c:crosses val="autoZero"/>
        <c:auto val="1"/>
        <c:lblAlgn val="ctr"/>
        <c:lblOffset val="100"/>
        <c:noMultiLvlLbl val="0"/>
      </c:catAx>
      <c:valAx>
        <c:axId val="6634052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18033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09DBD-F1F3-4C7C-8C82-467B53422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6228D-0135-47DE-AF37-3AE125FE2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E3C72-16D3-4F08-BD26-18248089C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D464E-0E54-4584-BC44-75E398C81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4E291-6458-4109-8903-9211043A0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290BD-7A5F-4DE2-AE37-AE78396F4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C5200-E5E7-423E-BCEA-14F2FD634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1ABED-A97E-4640-B618-D91008D27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D2E83-61FF-43A9-B12D-8FC6AC637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86629-0EE0-4E1D-AAFE-D9C830F56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7417A-B66A-45B5-847D-8B123C8F8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EAFA5-AE27-4E47-9E5E-9C8C2F5A8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960FD2-41A9-4DDA-894B-F81A3DA64F9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