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03144"/>
        <c:axId val="19612930"/>
      </c:barChart>
      <c:catAx>
        <c:axId val="51003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12930"/>
        <c:crosses val="autoZero"/>
        <c:auto val="1"/>
        <c:lblAlgn val="ctr"/>
        <c:lblOffset val="100"/>
        <c:noMultiLvlLbl val="0"/>
      </c:catAx>
      <c:valAx>
        <c:axId val="19612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03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601-11D2-4E1D-AE33-90173042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C97-A842-4F83-9F50-932412D9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738-B017-4BBC-A5F8-26778AAD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BE5-F1A7-4D2F-9B3E-59B9B63A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855-39B8-4359-AFFF-434A8309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83A-49C9-4198-BFA1-4B25AAA0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17C-E8B3-4BD6-AD3D-C6348F21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7AF-7A8C-4E66-BA7F-25AD9AEC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688-3896-484E-A439-C243B90E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E07-D799-49D1-8F15-96AA91A1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5D2-A763-4C6A-A804-5B9C2778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C16-7BC2-473A-8138-280D0DEC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470F0-5B04-4ECF-A9AC-8F0D3360D0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