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8962"/>
        <c:axId val="29677676"/>
      </c:barChart>
      <c:catAx>
        <c:axId val="4338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77676"/>
        <c:crosses val="autoZero"/>
        <c:auto val="1"/>
        <c:lblAlgn val="ctr"/>
        <c:lblOffset val="100"/>
        <c:noMultiLvlLbl val="0"/>
      </c:catAx>
      <c:valAx>
        <c:axId val="29677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8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6DB-58DA-426E-8239-5694E9F8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886F-C1D1-430B-B1C4-44E21CDE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B33-88AC-4471-ACB5-D748BF3D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F05-5946-4512-ABD8-2EF56FEC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5F6-B556-4DE5-9A08-0A827A4B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C79-8212-405C-8829-8F8AE0B2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CD3-88CB-4D2C-9731-FBAAC7F0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A45-53B9-49F4-9754-87435A94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BF7-D00E-495E-9564-D1F918BD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382-6851-484A-A385-CA36ED5D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E2B-5BF6-4102-86D3-B8B58768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B89-E8E2-4116-9545-6451FFF7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00488-9B4C-485F-9F55-7A0D7E4133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