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09412"/>
        <c:axId val="31229074"/>
      </c:barChart>
      <c:catAx>
        <c:axId val="29209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29074"/>
        <c:crosses val="autoZero"/>
        <c:auto val="1"/>
        <c:lblAlgn val="ctr"/>
        <c:lblOffset val="100"/>
        <c:noMultiLvlLbl val="0"/>
      </c:catAx>
      <c:valAx>
        <c:axId val="31229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09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019-CD93-425C-863B-D44C186F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035-F229-4631-8730-1E1D0F3A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3DC-A0B4-434B-B6AC-C7743D2B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DB4-D294-45F9-B377-905ECC44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632-9BE6-44C5-B2D4-14BA3B3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50E-5959-405E-A713-536D12CD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875-80E0-47AC-9B00-69DA489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C50-30D0-4047-AA9E-96DAE460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799-5541-4551-B920-9CEA5436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347-D977-414A-B556-8BBA78A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A0A-4166-4D47-8063-65DFB27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69B-5498-4BB5-AA20-4E68C9EC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ECD4-FC41-4B2A-B9AB-37798B0DF1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