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994931"/>
        <c:axId val="86760285"/>
      </c:barChart>
      <c:catAx>
        <c:axId val="499949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60285"/>
        <c:crosses val="autoZero"/>
        <c:auto val="1"/>
        <c:lblAlgn val="ctr"/>
        <c:lblOffset val="100"/>
        <c:noMultiLvlLbl val="0"/>
      </c:catAx>
      <c:valAx>
        <c:axId val="867602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949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0CA1-6BB1-46F9-913B-01684659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8832-57C5-4C76-93BF-77C295FB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251-9575-4407-8E09-3F2D01C0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4933-2367-40E1-9BFD-5E7F550E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8D9-6048-45D3-9898-0B4A3300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020-62B8-49ED-BF0F-050DA82B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AB8-0891-4CB7-A52D-6619289D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284-DA99-4FF6-BCF9-D230C098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C22-F5D1-4165-8241-95443D5C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F2C-E1CA-412F-9C98-8FBDFA94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F0F4-91FB-4515-A08B-D12E44CD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F29-9D54-4DF0-855A-66EF3452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C96CB-54C3-4024-968E-5A054FF0D9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