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227517"/>
        <c:axId val="91165376"/>
      </c:barChart>
      <c:catAx>
        <c:axId val="442275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65376"/>
        <c:crosses val="autoZero"/>
        <c:auto val="1"/>
        <c:lblAlgn val="ctr"/>
        <c:lblOffset val="100"/>
        <c:noMultiLvlLbl val="0"/>
      </c:catAx>
      <c:valAx>
        <c:axId val="911653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275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8F0B-ABEB-42D7-B28E-135B3FEF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042C-A5C7-4B9D-A1A9-84635789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7E13-60C7-412E-B81B-BEE9562E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D431-4075-475C-B069-4A796D3F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6011-E7E4-4710-B139-615A0AF3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68B1-DBEB-4D5A-AE67-FE31255C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5410-0BAB-49AA-9884-2507D068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1164-7893-42C6-B3B1-084E1FF1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0D79-66E8-4F1A-85C8-128E1B53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2897-7149-4DB6-AA21-DB159C3F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F4C8-863E-4C59-9E75-EF92FBD2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4318-2890-44C2-B873-D0439C91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5BBA3-92B8-4E34-82F3-62D7F3ED54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