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28808"/>
        <c:axId val="94271522"/>
      </c:barChart>
      <c:catAx>
        <c:axId val="28028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71522"/>
        <c:crosses val="autoZero"/>
        <c:auto val="1"/>
        <c:lblAlgn val="ctr"/>
        <c:lblOffset val="100"/>
        <c:noMultiLvlLbl val="0"/>
      </c:catAx>
      <c:valAx>
        <c:axId val="94271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28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95A-F81B-4CB1-B9F9-9BCAB821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F5A-18F1-4A8C-B731-AF5B9E9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A15-B129-440D-80E5-BDB3D27D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D16-1982-4A11-B09A-D5A450A1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89C-D134-4A6D-809A-C77F93FD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32D-7E0D-4E50-BA1C-480132DC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26A-F07E-4248-974B-FB08E551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1FC-5072-4408-B2F4-345C6BA8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5FD-8F78-4C65-AC93-9E37D456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36B-ABCA-4307-B447-042B3F0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420-0290-4EDF-BD03-B6DBB1F5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C63-86C2-485E-A3F2-D3848BA2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D7323-9CF8-41B4-9C8A-D3B819BF67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