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374130"/>
        <c:axId val="14068127"/>
      </c:barChart>
      <c:catAx>
        <c:axId val="733741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068127"/>
        <c:crosses val="autoZero"/>
        <c:auto val="1"/>
        <c:lblAlgn val="ctr"/>
        <c:lblOffset val="100"/>
        <c:noMultiLvlLbl val="0"/>
      </c:catAx>
      <c:valAx>
        <c:axId val="140681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3741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4A9D-1AEA-44D8-BB73-9529DAD78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86A3-AC98-443A-B0F0-1066D8B4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5C7F-2356-48FF-9DD4-161A9150A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04BD-ED24-4123-BC38-D96BA48FD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4C59-29C2-4A57-B74B-58C02BC2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4259-0401-4C79-86F6-3E928009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ADBF-257C-4686-BDC0-9FD2DA83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EE4C-2DD7-4EC5-975D-A8B926D8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07F4-836F-4503-816A-BEE1726F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3C0F-A772-44CF-9078-57340170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4465-8312-4ED8-8C69-0F5E4A1E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8662-04A0-4D1C-8DF7-3D2E53DD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DBB42-0A95-481C-A52E-B28CC20A3E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