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20645"/>
        <c:axId val="99350562"/>
      </c:barChart>
      <c:catAx>
        <c:axId val="23320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50562"/>
        <c:crosses val="autoZero"/>
        <c:auto val="1"/>
        <c:lblAlgn val="ctr"/>
        <c:lblOffset val="100"/>
        <c:noMultiLvlLbl val="0"/>
      </c:catAx>
      <c:valAx>
        <c:axId val="99350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20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D95-FD0F-4BCD-959D-956963E7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498-CD24-4FE8-B407-225B8C4B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892-AACF-4FD7-83EC-20C14B20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D77-74A7-48B4-86E2-A1CCBFED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969-7BEE-4905-88AE-642C2C37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863-E05F-49B0-AA4B-8F3D80A9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A3C-4A11-4189-8303-C311146E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FC6-135F-4E16-866C-082806CC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8E3-DAA0-4863-BAB4-D49E64F7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623-C668-44F7-8F83-30B2F813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EFA-EA12-477F-8E8E-C3596E3E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F4F-2A44-43B9-BD66-49BDD798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4A3A7-C648-4CDF-BC4E-B7C0DF1BE4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