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44870"/>
        <c:axId val="54781366"/>
      </c:barChart>
      <c:catAx>
        <c:axId val="48144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81366"/>
        <c:crosses val="autoZero"/>
        <c:auto val="1"/>
        <c:lblAlgn val="ctr"/>
        <c:lblOffset val="100"/>
        <c:noMultiLvlLbl val="0"/>
      </c:catAx>
      <c:valAx>
        <c:axId val="54781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44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D3A-3488-4940-935D-00F5D952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2AB-5C26-4FA9-B0D3-33319B06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77B-5010-43A1-8DA1-53888635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3B4-CFC5-41BF-82DB-928A20B6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B10-A6E9-4CB9-AD22-33687771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8F0-FC39-45DE-8093-E542511D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2BA-1322-4DCF-B259-11EEE65D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FB7-8336-42A1-B1FB-26F6E48A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32D-8F07-480F-A26E-385CC86F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5AB-A42F-4BD6-80AD-883E2B70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FD3-0E87-4213-869B-74418B10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C6C-DE74-47DC-B75B-BB805C4C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739D8-7DB2-4E5F-84C6-8B37B07D21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