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80835"/>
        <c:axId val="96066711"/>
      </c:barChart>
      <c:catAx>
        <c:axId val="54780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66711"/>
        <c:crosses val="autoZero"/>
        <c:auto val="1"/>
        <c:lblAlgn val="ctr"/>
        <c:lblOffset val="100"/>
        <c:noMultiLvlLbl val="0"/>
      </c:catAx>
      <c:valAx>
        <c:axId val="96066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80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3BD-A2A3-497C-B99B-BF546E58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F91-E911-4FF8-ACCB-403D1FCB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DC5-8F8D-4ADE-BEB2-36CFB408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9FF-767F-4688-82FC-25C3CE4C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129-6953-428D-A0D2-2F29C020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2A7-3FE5-4F8D-B9E3-39707517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593-1800-46D3-A753-1BFDF578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3DF-FA24-4D67-8858-F123BAFD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514-7E92-4C65-BEBE-3113526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1F7-BF11-4873-A610-E7749A7E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615-15C2-4645-98F6-AE4BDAC9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C8C-4163-431B-B83E-BDA55035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60879-2786-4E35-B9A8-C99C7AA62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