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56935"/>
        <c:axId val="38830234"/>
      </c:barChart>
      <c:catAx>
        <c:axId val="19569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30234"/>
        <c:crosses val="autoZero"/>
        <c:auto val="1"/>
        <c:lblAlgn val="ctr"/>
        <c:lblOffset val="100"/>
        <c:noMultiLvlLbl val="0"/>
      </c:catAx>
      <c:valAx>
        <c:axId val="388302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69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42C7-0633-4468-8EED-86154FAA6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DF51-1B77-4346-8AB2-67EC7958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3376-0279-4370-A397-23DC3EC00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0259-00F6-46C6-95C7-60047D4F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9A1B-F111-4B73-9951-60916997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32CD-C8A2-4372-8C63-A5F4DC50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94C4-7552-4E49-B2F0-C1E9184A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329C-77CD-4C94-A161-37226204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52B6-C3BE-421B-A2DF-3AB584E8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E700-A32D-4C3F-83E7-799AB8F9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B318-8585-4A5D-ACB6-2AA0D4B1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3E7D-61A8-4A61-B26B-9D16ED3E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794C7-7D3E-4F6A-A7F5-66058D19A8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