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835"/>
        <c:axId val="99161771"/>
      </c:barChart>
      <c:catAx>
        <c:axId val="756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1771"/>
        <c:crosses val="autoZero"/>
        <c:auto val="1"/>
        <c:lblAlgn val="ctr"/>
        <c:lblOffset val="100"/>
        <c:noMultiLvlLbl val="0"/>
      </c:catAx>
      <c:valAx>
        <c:axId val="99161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198-F3FD-40B8-9B77-BB1A08A1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27C-C146-4DAA-AA90-D5D80F8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9D1-9111-4BAB-ADCC-E9FBCF1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50C-E74D-4A98-BF29-18601E4E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7A6-AEAC-4EC3-97E2-BEA1DE5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83E-A486-42D7-8117-0D9D24E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097-2DFC-4542-B5EC-F05C9CC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45B-A455-4488-873B-2D7ABBB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B11-EDD1-4B27-9483-F935B0F9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00A-E900-4437-919C-609047C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07E-FF88-420C-B0D9-20D0899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D74-3D81-42FB-88D1-A5C6CBC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D009-1947-4F16-BA31-D9B9C1DD9C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