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22370"/>
        <c:axId val="97906283"/>
      </c:barChart>
      <c:catAx>
        <c:axId val="29522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6283"/>
        <c:crosses val="autoZero"/>
        <c:auto val="1"/>
        <c:lblAlgn val="ctr"/>
        <c:lblOffset val="100"/>
        <c:noMultiLvlLbl val="0"/>
      </c:catAx>
      <c:valAx>
        <c:axId val="97906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22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6D9-E441-433E-A052-41D0A821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60E-B887-438D-8512-C70C22A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3DE-9BBD-4D86-9AFB-45561254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BB0-B29E-468F-8676-4B3DE0C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395-77AD-481F-9351-AF3B58F5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252-DC86-4067-A76B-2D0764D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1EA-BD9E-4838-B39E-32292DB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055-0108-44B0-B6DE-CC2698C5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D59-6F5E-4168-B481-BD27911F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361-4FC5-48D3-8C89-E5C08B4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74F-ABEC-4DF8-83A9-91524AE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302-6A88-44CD-BDA7-4300B4E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9E7B2-C976-495E-BC0D-655417A971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