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36413"/>
        <c:axId val="13036706"/>
      </c:barChart>
      <c:catAx>
        <c:axId val="69836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36706"/>
        <c:crosses val="autoZero"/>
        <c:auto val="1"/>
        <c:lblAlgn val="ctr"/>
        <c:lblOffset val="100"/>
        <c:noMultiLvlLbl val="0"/>
      </c:catAx>
      <c:valAx>
        <c:axId val="13036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36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236-5A5A-4B28-A245-F251D3E5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A13-12A3-4CB2-8370-6319BE00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20F-F588-4342-9CEB-D27DDE14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144-4E3E-4843-8AEB-990D5986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7D9-0B90-4899-939C-473DBC52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B8C-48C6-4329-A3B3-70E205AD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31C-8F05-4F21-AA00-51507EE2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A2A-8749-408B-9A19-DF869A2A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B15-3DB9-4E73-8AD7-F3E9E0B2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08A-2D1F-443E-A18D-8AF62111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E3B-55E7-484D-B3FF-AB2C42EA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217-5B99-4108-8007-820BB58B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1A2ED-539C-4FF1-9028-4AFA3DB46B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