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43670"/>
        <c:axId val="91821870"/>
      </c:barChart>
      <c:catAx>
        <c:axId val="17443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21870"/>
        <c:crosses val="autoZero"/>
        <c:auto val="1"/>
        <c:lblAlgn val="ctr"/>
        <c:lblOffset val="100"/>
        <c:noMultiLvlLbl val="0"/>
      </c:catAx>
      <c:valAx>
        <c:axId val="91821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43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270-060A-478A-9E1A-BE337583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847-4038-4D9B-96AE-813AE108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D5E-76A8-48FD-A805-D7AF2384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7D6-F5DB-4DFC-9192-9B117F99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380-90CC-4FC4-A94D-40214B76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B08-0A4B-42AB-844B-1E4D3F2E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2F8-C608-41FE-99E3-2A6B4D1A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4E0-889A-4591-844C-1B9AF0CE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8AE-680C-49D5-A9CD-ED2ADB12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6DD-2366-4701-8AA4-7A6D2D22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962-AA75-4AFD-BB51-DF209197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4C1-DC70-49B5-B1E7-14815A8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F1736-0200-4D5D-8ED3-4769DE8FEC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