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059584"/>
        <c:axId val="96940379"/>
      </c:barChart>
      <c:catAx>
        <c:axId val="450595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40379"/>
        <c:crosses val="autoZero"/>
        <c:auto val="1"/>
        <c:lblAlgn val="ctr"/>
        <c:lblOffset val="100"/>
        <c:noMultiLvlLbl val="0"/>
      </c:catAx>
      <c:valAx>
        <c:axId val="969403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595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EEC2-B3D9-48E4-9B6A-AB82DA3FB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3415-23CA-47F7-AC47-7A0332B6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C597-6521-4C73-8C31-17C13726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CF07-E9E7-444A-9C74-DC4AD272E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89D8-3362-499F-8D0C-98B54240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DB03-84F8-4AA7-BD2A-DBF67641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C137-27F0-4C0F-A768-DB77714A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4461-5650-484E-85F6-18349A02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31B9-29C6-4D99-ABF8-8F310223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40B9-988E-4664-918B-4833429C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849A-F5E7-485F-88DF-92D3E9F4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7E50-67E0-4DE6-8B3E-A1765444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1C6CE-73D4-4F7A-A562-5BA52454F0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