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6504"/>
        <c:axId val="66605675"/>
      </c:barChart>
      <c:catAx>
        <c:axId val="1526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05675"/>
        <c:crosses val="autoZero"/>
        <c:auto val="1"/>
        <c:lblAlgn val="ctr"/>
        <c:lblOffset val="100"/>
        <c:noMultiLvlLbl val="0"/>
      </c:catAx>
      <c:valAx>
        <c:axId val="66605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6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26A-1614-4830-BC74-6C1BBE9E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893-158B-4947-85C2-C5F3F16A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72F-98EA-4184-91B1-3729AEE0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548-D322-47A4-B312-855A68FE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DE9-950A-4C06-9E99-45015967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B66-7D72-4F42-AE9B-E9C93282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B4A-45A8-41B2-9CE5-71D79CC3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FEB-99DB-48AE-9C73-C64AF20F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4FC-F5B7-4BA4-9260-0F3B1D02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E1D-DCE4-44CE-BF12-DF4F7BE8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3BD-3AA3-4870-AA99-F19678E4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284-FCA2-4DD5-9B66-1AB57659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AB6D5-6CDF-4739-ACDE-3B1FB56E64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