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80495"/>
        <c:axId val="20226180"/>
      </c:barChart>
      <c:catAx>
        <c:axId val="12380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26180"/>
        <c:crosses val="autoZero"/>
        <c:auto val="1"/>
        <c:lblAlgn val="ctr"/>
        <c:lblOffset val="100"/>
        <c:noMultiLvlLbl val="0"/>
      </c:catAx>
      <c:valAx>
        <c:axId val="20226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80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084-232F-41AA-A716-4A21F6F8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2C4-0560-4ECF-B2B9-5901730C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3AB-DC3E-421C-9DFF-AB1B377B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B43-B921-4E9B-AB55-52F9D6F33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55F-E2AA-4E73-847D-0B375340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000B-2E36-49FB-A887-5645D12A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097-9326-40C0-849B-DAA93759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0ED-10E4-4ED7-9112-4F66EDC8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EA7-6214-4531-A13E-7F9F9ACA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4EC-735D-405E-8953-D34D25F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554-D7EF-46E7-8C23-287F5E73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1A9-25D1-431D-8EB2-EF4E383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BB95D-BFDD-4531-AB46-D7173BCA96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