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27466"/>
        <c:axId val="5932562"/>
      </c:barChart>
      <c:catAx>
        <c:axId val="19927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2562"/>
        <c:crosses val="autoZero"/>
        <c:auto val="1"/>
        <c:lblAlgn val="ctr"/>
        <c:lblOffset val="100"/>
        <c:noMultiLvlLbl val="0"/>
      </c:catAx>
      <c:valAx>
        <c:axId val="5932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27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9FE-7F30-4412-A7A9-84626574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D1B-5ED2-4B89-BBEF-C8D37436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276-92C3-4C7D-9B00-BCA0C373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7348-9463-4A9B-8003-81739742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B7B-09FB-485D-BA5D-A7745CCB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4294-2CCE-426B-99D3-9E34E4BE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5BE2-7069-48D8-99D6-68EA83B0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2CA-601C-4192-921C-BD7ACA95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425-CB44-42EB-937A-2BB2E3A3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FE4B-F1EE-4F0F-8704-A8FFBCA0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F4E-EDEC-4542-8312-5776060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D27-BEA5-4E05-970F-92A27F11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4D997-804F-4DFB-95A4-1F2CEB793C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